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8D3C-9F9C-40DA-A68D-848774C3A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D28B-CAA2-4A0C-8848-9D1C88350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9D75-2294-469D-A063-7BE32A6D7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70B2-ECD8-45E0-ACBB-FCEEC190C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A04E2-78EC-4E84-B467-A3FD89386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35DE7-F30F-42E4-B1DB-E9E38F7A1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1B631-3F90-44D0-A4B1-0383E605F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14104-0048-4DED-9CD1-8BE0A9FA1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25903-C81C-474E-83F8-376F08B98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08788-491E-4F44-AB19-0317B52AC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5B044-4662-43F6-BDBE-61037A229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38B4-F527-4AEB-8300-6994F387C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EB38C-722B-498C-B0D9-EAE018746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BD542-DC83-462A-9421-C73CE0D5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3A935-FE5B-4438-A1A9-E975D6A06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F03BF-C4E9-4F30-9D79-4F97A7D87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2E8D1-D0A6-4BEB-AD9A-2A5CB895E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C035-9C1A-4780-8F9A-F041ACD9A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FC53-B9B8-467A-B91D-24FD77AF6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8F19-2FCE-4005-81DD-2BA753DE9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AC8A-1718-4D6F-AC3F-812ED9F8D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5189-4EB6-4226-BC33-3D9FFB49A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07D4-CC62-4E86-82D3-9956B42C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BD66-CF01-4318-A8C7-4D99F798F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AB480-4B58-4E72-93B3-C5BCC8AAAFA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47CAF-024A-4AB8-AEDD-6774E67AB10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Sand_Lizard_2008_G3.jpg" TargetMode="External"/><Relationship Id="rId2" Type="http://schemas.openxmlformats.org/officeDocument/2006/relationships/hyperlink" Target="http://ru.wikipedia.org/wiki/&#1060;&#1072;&#1081;&#1083;:Sand_Lizard_2008_G1.jpg" TargetMode="External"/><Relationship Id="rId3" Type="http://schemas.openxmlformats.org/officeDocument/2006/relationships/image" Target="../media/image12.jpeg"/><Relationship Id="rId4" Type="http://schemas.openxmlformats.org/officeDocument/2006/relationships/hyperlink" Target="http://ru.wikipedia.org/wiki/&#1060;&#1072;&#1081;&#1083;:Sand_Lizard_2008_G3.jpg" TargetMode="External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onlinedics.ru/slovar/bes/o/otrjad.html" TargetMode="External"/><Relationship Id="rId2" Type="http://schemas.openxmlformats.org/officeDocument/2006/relationships/hyperlink" Target="http://www.onlinedics.ru/slovar/bes/d/1-dlina.html" TargetMode="External"/><Relationship Id="rId3" Type="http://schemas.openxmlformats.org/officeDocument/2006/relationships/hyperlink" Target="http://www.onlinedics.ru/slovar/fam/n/nilskij.html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9;&#1082;&#1086;&#1083;&#1086;&#1075;&#1080;&#1103;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6;&#1078;&#1080;&#1089;&#1090;&#1072;&#1103;_&#1095;&#1077;&#1088;&#1077;&#1087;&#1072;&#1093;&#1072;" TargetMode="External"/><Relationship Id="rId2" Type="http://schemas.openxmlformats.org/officeDocument/2006/relationships/hyperlink" Target="http://ru.wikipedia.org/w/index.php?title=&#1053;&#1072;&#1084;&#1072;&#1082;&#1074;&#1072;&#1083;&#1077;&#1085;&#1076;&#1089;&#1082;&#1072;&#1103;_&#1095;&#1077;&#1088;&#1077;&#1087;&#1072;&#1093;&#1072;&amp;action=edit&amp;redlink=1" TargetMode="External"/><Relationship Id="rId3" Type="http://schemas.openxmlformats.org/officeDocument/2006/relationships/hyperlink" Target="http://ru.wikipedia.org/w/index.php?title=&#1053;&#1072;&#1084;&#1072;&#1082;&#1074;&#1072;&#1083;&#1077;&#1085;&#1076;&#1089;&#1082;&#1072;&#1103;_&#1095;&#1077;&#1088;&#1077;&#1087;&#1072;&#1093;&#1072;&amp;action=edit&amp;redlink=1" TargetMode="External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fotosbornik.ru/wallpapers/5440.html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fotosbornik.ru/wallpapers/2280.html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fotosbornik.ru/wallpapers/740.html" TargetMode="External"/><Relationship Id="rId6" Type="http://schemas.openxmlformats.org/officeDocument/2006/relationships/image" Target="../media/image5.jpeg"/><Relationship Id="rId7" Type="http://schemas.openxmlformats.org/officeDocument/2006/relationships/hyperlink" Target="http://fotosbornik.ru/wallpapers/536.html" TargetMode="External"/><Relationship Id="rId8" Type="http://schemas.openxmlformats.org/officeDocument/2006/relationships/image" Target="../media/image6.jpeg"/><Relationship Id="rId9" Type="http://schemas.openxmlformats.org/officeDocument/2006/relationships/hyperlink" Target="http://fotosbornik.ru/wallpapers/387.html" TargetMode="External"/><Relationship Id="rId10" Type="http://schemas.openxmlformats.org/officeDocument/2006/relationships/image" Target="../media/image7.jpeg"/><Relationship Id="rId11" Type="http://schemas.openxmlformats.org/officeDocument/2006/relationships/hyperlink" Target="http://fotosbornik.ru/wallpapers/386.html" TargetMode="External"/><Relationship Id="rId12" Type="http://schemas.openxmlformats.org/officeDocument/2006/relationships/image" Target="../media/image8.jpeg"/><Relationship Id="rId1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7;&#1088;&#1077;&#1085;&#1080;&#1077;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6;&#1088;&#1080;&#1095;&#1085;&#1077;&#1074;&#1072;&#1103;_&#1095;&#1077;&#1088;&#1077;&#1087;&#1072;&#1093;&#1072;" TargetMode="External"/><Relationship Id="rId2" Type="http://schemas.openxmlformats.org/officeDocument/2006/relationships/hyperlink" Target="http://ru.wikipedia.org/wiki/&#1060;&#1072;&#1081;&#1083;:Testudo_marginata6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837720" y="304920"/>
            <a:ext cx="80074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Нам наших героев нужно понять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Их образы будем мы раскрывать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И дальше о них прочитаем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Героев поближе узнаем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7720" y="533160"/>
            <a:ext cx="8007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Ящериц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дотряд пресмыкающихся отряда чешуйчатых. Тело длиной от нескольких см до 3 м и более (комодский варан), покрыто ороговелыми чешуйками. У большинства хорошо развиты конечности. Более 3900 видов, на всех континентах, кроме Антарктиды, преимущественно в тропиках и субтропиках; обитают в степях, пустынях и лесах. Многие способны отбрасывать хвост (автотомия). Некоторые ядовиты (ядозубы). Истребляют насекомых-вредителей. Мясо некоторых видов съедобно, кожа используется для различных поделок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762120" y="685440"/>
            <a:ext cx="8007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ящериц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 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Ящерица интересна тем, что она умеет сбрасывать старый хвост и выращивать новый, правда новый хвост растет довольно медленно. Отброшенный хвост ящерицы какое-то время продолжает извиваться, что дает ящерице выигрыш во времени, чтобы убежать от птицы или хищного животного.  Способность ящерицы выращивать новый хвост называется регенерацие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 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 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ара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Варан относится к ящерицам, язык у него раздваивается, как у змеи. Вараны хорошо бегают, ныряют и плавают. Питаются вараны яйцами, лягушками, моллюсками, рыбой, крабами, ящерицами, змеями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 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 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Хамелео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Хамелеон тоже относится к ящерицам. Наиболее известен хамелеон тем, что умеет изменять окраску тела. Глаза  вращаются в разные стороны, не зависимо друг от друга, что помогает хамелеону ловить насекомых. Хвост обматывается вокруг веток, а еще он держится лапками, похожими на клешни. Картинки и фото хамелеонов очень оригинальны, так как весьма оригинальные они сам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Ящерица прытка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5257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 прыткой ящерицы светлый низ живота, а на спине есть полосы. Самцы обычно темнее и имеют более яркую раскраску; в период спаривания они становятся зелёными. В длину ящерицы достигают 25 с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ть около 10 признаваемых подвидов прыткой ящерицы, в бывшем СССР встречается 6 из них. Прыткая ящерица считается исчезающим видом и охраняется законом на большей части территории Европы, в отличие от России, где подвид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Lacerta agilis exigua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весьма распространён и многочисле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705720" y="1981080"/>
            <a:ext cx="2057400" cy="15242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400800" y="3809880"/>
            <a:ext cx="25146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крокодилы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рокодилы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отряд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водных пресмыкающихся. </a:t>
            </a: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Длина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до 7 м (</a:t>
            </a: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нильский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крокодил). Живут в реках, озерах и болотах. Питаются главным образом рыбой.                 26 видов и подвидов в Красной книге Международного совета охраны природы и природных ресурсов. В США, Японии, на Кубе и в ряде других стран крокодилов разводят на ферма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85440" y="914040"/>
            <a:ext cx="8007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Змея - пресмыкающееся с длинным извивающимся телом, часто с ядовитыми железами в паст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Гремучая з. (с гремящими роговыми кольцами на конце хвоста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Морская з. (в океанических водах тропиков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7720" y="762120"/>
            <a:ext cx="8007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мире существует около 2700 разновидностей змей, из которых 375 -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ядовитые зме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Многие из змей относятся к вымирающим, поскольку люди  уничтожали их, считая своими непосредственными врагами, и даже не разбираясь, ядовитая змея или нет. Множество змей погибло и из-за моды на одежду и аксессуары из змеиной кожи, а также из-за необходимости в змеином яде как лекарстве. Конечно, более гуманным является способ, при котором животное остается в живых, но к сожалению, браконьеры не думают о животных, их интересует только прибыл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Некоторые статистические данные: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самыми маленькими змеями являются слепые, которые  в длину достигают около 5 с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самыми большими змеями являются анаконды, какие в длину достигают 12 м. и боле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продолжительность жизни рептилий в неволе достигает 50 л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Змеи и крокодил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6" name="" descr="фото змей... (18 шт)"/>
          <p:cNvPicPr/>
          <p:nvPr/>
        </p:nvPicPr>
        <p:blipFill>
          <a:blip r:embed="rId1"/>
          <a:stretch/>
        </p:blipFill>
        <p:spPr>
          <a:xfrm>
            <a:off x="3048120" y="4267080"/>
            <a:ext cx="2438280" cy="12956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324480" y="4038480"/>
            <a:ext cx="2362320" cy="14479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685800" y="1752480"/>
            <a:ext cx="2230560" cy="29718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Фото - Крокодилы"/>
          <p:cNvPicPr/>
          <p:nvPr/>
        </p:nvPicPr>
        <p:blipFill>
          <a:blip r:embed="rId4"/>
          <a:stretch/>
        </p:blipFill>
        <p:spPr>
          <a:xfrm>
            <a:off x="5105520" y="1676520"/>
            <a:ext cx="24382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террариум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8102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это помещение для содержания наземных животных. Это различные амфибии (лягушки, жабы, тритоны, саламандры), рептилии (ящерицы, змеи, черепахи, крокодилы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029200" y="1523880"/>
            <a:ext cx="2857680" cy="17431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952880" y="3809880"/>
            <a:ext cx="37339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762120" y="182880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4920" y="1380600"/>
            <a:ext cx="4114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уществует несколько типов террариумов: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оризонтальны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имеет большую площадь дна и незначительную высоту, предназначен для содержания не лазающих животных, например пустынные виды, безногие ящерицы, земноводные (кроме древесных).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ртикальный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здесь высота важнее площади дна, поскольку используется для содержания древесных видов (квакши, гекконы, древесные змеи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495680" y="781200"/>
            <a:ext cx="3733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Для животных, любящих купаться, должен быть бассейн, такого размера, чтобы гад в нём свободно уместился, или даже плавал (пресноводные черепахи, амфибии)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0" y="266400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Освещают террариум, как и аквариум, люминесцентными лампам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19720" y="4144320"/>
            <a:ext cx="41148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узнайте заранее все необходимые требования содержания и размер животного. Малыши всех животных привлекательны и забавны, но следует знать,  они растут и достигают, если не природных размеров, то близких к ним. Например, игуаны вырастают до 1,5 м; питоны до 3-5 м, эублефары до 15 см, красноухие черепахи до 60 см и т. д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Кто такая черепаха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Медленно двигающееся на коротких конечностях пресмыкающееся, покрытое (исключая кожистую черепаху) костным панцирем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Уход за террариумом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жедневно чистить и убирать поверхность грунта, опрыскивать растения, протирать стекла и стенки, песок и камни периодически прокаливать. Кормить ящериц насекомыми, слизнями, мотылем. Болотную черепаху кусочками мяса, рыбой. Сухопутную кусочками фруктов и овощей, листьями салата, капуст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ормят  один раз в 2-3 дня. Ящериц и черепах кормят днем на солнц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акватеррариум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мещение с большой водной частью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ля грунта используют гальку, крупнозернистый пес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066680" y="3886200"/>
            <a:ext cx="3429000" cy="25909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5029200" y="3886200"/>
            <a:ext cx="3048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837720" y="304920"/>
            <a:ext cx="80074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 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бычно акватеррариумы     изготавливаются для: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ептилий, жизнь которых неразрывно связана с водой (крокодилы, водные черепахи)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мфибий, требующих постоянно высокой влажности воздуха (древолазы, саламандры)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обычных животных, ведущих полуводный – полуназемный образ жизни (рыбы - илистые прыгуны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326120" y="3169080"/>
            <a:ext cx="491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   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Животные в разных группах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старшей группе помещают черепаху.  Дети наблюдают за ящерицами, черепахами: их повадками и  узнают среду обита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подготовительной группе узнают размножение ящериц и черепах. Узнают о сезонной жизни животных - как зимуют, где живут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Используемая литератур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- материал предоставленный педагог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 – сайты интернета (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/www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n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/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 -  учебник « я познаю мир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837720" y="1828440"/>
            <a:ext cx="8007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18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Спасибо за внимание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28600" y="403848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5943600" y="304920"/>
            <a:ext cx="2495520" cy="16002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304920" y="152280"/>
            <a:ext cx="3257280" cy="19051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Картинка 39 из 130"/>
          <p:cNvPicPr/>
          <p:nvPr/>
        </p:nvPicPr>
        <p:blipFill>
          <a:blip r:embed="rId4"/>
          <a:stretch/>
        </p:blipFill>
        <p:spPr>
          <a:xfrm>
            <a:off x="4800600" y="4114800"/>
            <a:ext cx="28576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А это нам интересно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 </a:t>
            </a:r>
            <a:r>
              <a:rPr b="0" lang="en-US" sz="44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экологической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 точки зрения черепахи делятся на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морских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наземных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, а наземные в свою очередь подразделяются на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сухопутных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пресноводных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А ты это знаешь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5334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рские виды черепах как правило, больше сухопутных и пресноводных сородичей. Крупнейшими из современных черепах являются </a:t>
            </a:r>
            <a:r>
              <a:rPr b="0" lang="ru-RU" sz="24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кожистые черепах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с длиной панциря 2 м и весом более 900 кг. Самый мелкий вид черепах — крапчатая, или </a:t>
            </a:r>
            <a:r>
              <a:rPr b="0" lang="ru-RU" sz="24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намаквалендская</a:t>
            </a:r>
            <a:r>
              <a:rPr b="0" lang="ru-RU" sz="24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 черепах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не превышающая 10 см в длин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Dermochelys coriacea Кожистая черепаха"/>
          <p:cNvPicPr/>
          <p:nvPr/>
        </p:nvPicPr>
        <p:blipFill>
          <a:blip r:embed="rId4"/>
          <a:stretch/>
        </p:blipFill>
        <p:spPr>
          <a:xfrm>
            <a:off x="5410080" y="1371600"/>
            <a:ext cx="3467160" cy="26668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034440" y="1541160"/>
            <a:ext cx="250920" cy="9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0440" bIns="127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br>
              <a:rPr sz="2100"/>
            </a:b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vid020" descr="вид"/>
          <p:cNvPicPr/>
          <p:nvPr/>
        </p:nvPicPr>
        <p:blipFill>
          <a:blip r:embed="rId5"/>
          <a:stretch/>
        </p:blipFill>
        <p:spPr>
          <a:xfrm>
            <a:off x="5486400" y="4343400"/>
            <a:ext cx="3086280" cy="19051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030480" y="4358880"/>
            <a:ext cx="180720" cy="9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0440" bIns="127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А вот и они черепаш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9" name="" descr="Фото - Красноухая черепах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2057400"/>
            <a:ext cx="2286000" cy="19684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0" y="238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1223899013" descr="Фото - Морская черепаха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86200" y="1905120"/>
            <a:ext cx="2286000" cy="17524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020280" y="2134080"/>
            <a:ext cx="109800" cy="16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90000" tIns="152280" bIns="381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Фото - Черепахи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705720" y="2133720"/>
            <a:ext cx="1904760" cy="18921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Фото - Черепахи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143000" y="4724280"/>
            <a:ext cx="1981080" cy="16639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271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1218345978" descr="Фото - Черепахи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581280" y="4191120"/>
            <a:ext cx="2438640" cy="19047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Фото - Черепахи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629400" y="4572000"/>
            <a:ext cx="2209680" cy="18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Как же находят еду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Черепахи обладают хорошо развитым цветовым </a:t>
            </a:r>
            <a:r>
              <a:rPr b="0" lang="en-US" sz="44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зрением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. При поиске пищи они в первую очередь ориентируются на её цвет и лишь затем на запах и вкус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Черепаха и ее потомство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6172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ногие черепахи делают несколько кладок в течение сезона. Черепахи почти всех видов после откладки яиц теряют к ним всякий интерес и не проявляют никакой заботы о потомстве. Единственное известное науке исключение — </a:t>
            </a: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коричневая черепаха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761160" y="4343400"/>
            <a:ext cx="2382840" cy="16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Кто такая болотная черепах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4" name="" descr="Болотная черепаха"/>
          <p:cNvPicPr/>
          <p:nvPr/>
        </p:nvPicPr>
        <p:blipFill>
          <a:blip r:embed="rId1"/>
          <a:stretch/>
        </p:blipFill>
        <p:spPr>
          <a:xfrm>
            <a:off x="6172200" y="4724280"/>
            <a:ext cx="2971800" cy="19814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523880" y="1981080"/>
            <a:ext cx="609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Живут до 25 лет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208240"/>
            <a:ext cx="701064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Место обитания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Южная, Центральная и Восточная Европа, Передняя Азия, Кавказ, Закавказье, Северо-запад Казахстана, Север Ирана, Западная Туркмения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, Северо-западная Африк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3880" y="3152160"/>
            <a:ext cx="64008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Содержание: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ля болотных черепах необходим акватеррариум горизонтального типа для животных, объемом от 150 л для 1-2 особей и локальным, направленным вниз подогревом. Температура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д подогревом днем до 30-32°С. Температура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оды 18-20°С. Содержать черепах можно группой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3880" y="4570200"/>
            <a:ext cx="4038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Кормление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 террариумных условиях кормят рыбой, кусками сырого мяса и растительными добавками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3880" y="5408640"/>
            <a:ext cx="3886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Разведение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яйцекладущий вид. Количество яиц в кладке от 3 до 19 штук. Инкубация при температуре 27-29°С – 68-100 дней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ухопутная черепах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4496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ухопутные черепахи населяют обычно открытые пространства, степи, саванны и пустыни, лишь немногие виды встречаются в сырых и лесистых местностях . Сухопутные черепахи могут поразительно долго обходиться без пищи и воды, Продолжительность жизни очень велика — до 50 — 100, а изредка до 150 лет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562720" y="1752480"/>
            <a:ext cx="3276360" cy="22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тудент</cp:lastModifiedBy>
  <dcterms:modified xsi:type="dcterms:W3CDTF">2010-05-22T09:50:10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